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F37-CFED-411A-896E-AFFAC4CC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A57-3DAF-42A4-8411-3665832A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286-F3FA-4A23-A291-310ADC42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197-BB87-43E7-8035-9640C9AE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3A4-154B-4BC9-8BA7-2D283117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4D4-E7E9-4441-A6E6-EF0AD05A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FC1A-5F04-46E6-A746-72315075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311-E98B-4B09-92E7-50E539BF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03F-B2C7-4163-8DC3-73503F05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8F2-F393-441E-BE98-0F4B3DDA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21E-00C1-4A8F-8594-8BA50F1F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3C5-F6B4-468B-9FB2-AE588A24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96D4-BCAA-4A39-B655-19591B7B84E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IF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1280" y="16668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ἠρξατο διδασκειν αὐτους ὁτι δει παθειν πολλα και διωχθηναι ὑπο των πρεσβυτερων και των ἀρχιερεων και των γραμματεων και ἀποκτανθην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νυν ἡ κρισις ἐστιν του κοσμου τουτου, νυν ὁ ἀρχων του κοσμου τουτου ἐκβληθησεται ἐξ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Ἰησους εἰπεν αὐτοις∙ Το ποτηριον ὃ ἐγω πινω πιεσθε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rregular futur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ιν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το βαπτισμα ὃ ἐγω βαπτιζομαι βαπτισθησεσθ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ακαριοι οἱ ἐλεημονε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εημων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erciful; declines lik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λειω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τι αὐτοι ἐλεηθ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ακαριοι οἱ εἰρηνοποιοι [= εἰρηνη + ποιεω], ὁτι αὐτοι υἱοι θεου κληθ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ἀποκριθεις αὐτοις λεγει∙ Τίς ἐστιν ἡ μητηρ μου και οἱ ἀδελφοι μ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Exercises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71280" y="1285920"/>
            <a:ext cx="914400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ἀπεκριθη αὐτῳ εἱς ἐκ του ὀχλου∙ Διδασκαλε, ἠνεγκα τον υἱον μου προς σε, ἐχοντα πνευμα πονη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ρξαντο λυπεισθαι και λεγειν αὐτῳ εἱς κατα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ἱς∙ Μητι ἐγ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y were filled with great awe [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it. ‘they feared a great fear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and said to one another, ‘Who then is this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having entered he said to them, ‘Why are you afraid and weep? The child has not died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afraid and answered the chief priest, ‘They returned to the sanctuary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 husband not having faith is made holy through [us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 wife, and the wife not having faith is made holy through her husba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78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1280" y="1666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φανη ἀνηρ τις ἐκ της πολεως ἐχων δαιμονια και πολυν χρονον  οὐκ ἐνεδυσατο ἱματιον και ἐν οἰκιᾳ οὐκ ἐμε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Ἰδων δε ὁ Ἰησους ὀχλον περι αὐτον ἐκελευσεν τους μαθητας ἀπελθειν εἰς το περ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Ἰησους εἰπεν∙ Μη κωλυετε αὐτον. οὐδεις γαρ ἐστιν ὁς ποιησει δυναμιν ἐπι τῳ ὀνοματι μου και λαλησει κακως περι ἐμ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εκριθη αὐτῳ ὁ ἀσθενων∙ Κυριε, ὑπηρετην οὐκ ἐχω βαλειν με εἰς το ὑδωρ∙ ὁτε εἰς αὐτο ἐρχομαι ἐγω, ἀλλος προ ἐμου καταβαιν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ουλομεθα οὐν γνωναι τίνα ταυτα ἐστ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ς γαρ ὁ Ἡρῳδης ἀποστειλας ἐκρατησεν τον Ἰωαννην και ἐδησεν αὐτον ἐν φυαλκῃ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iso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α την γυναικα του ἀδελφου αὐτου, ὁτι αὐτην ἐγαμησ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71280" y="1285920"/>
            <a:ext cx="87156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φαγον τον καρπον παντες, και ἠρθη το περισσευ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 γαρ ἀγαπη του θεου ἐκχειται ἐν ταις καρδιαις ἡμων δια πνευματος ἁγιου του λαμβανομενου ὑφ’ ἡ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time of harvest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it. ‘time of the fruits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came, he sent his slaves to receive the produce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frui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which was 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ilip said, ‘We were hindered by the devil but after a long time we finished the sanctuary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he sent one of his disciples, saying to him, ‘Go into the city, and a man carrying a cup of water will serve you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I make known to you, brothers and sisters, that the good news which was proclaimed by me is not according to a human be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55760" y="1557360"/>
            <a:ext cx="82152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hew 11.2-5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ὲ Ἰωάννης ἀκούσας ἐν τῷ δεσμωτηρίῳ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iso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ὰ ἔργα τοῦ Χριστοῦ πέμψας διὰ τῶν μαθητῶν αὐτοῦ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εἶπεν αὐτῷ, Σὺ εἶ ὁ ἐρχόμενος ἢ ἕτερον προσδοκῶμε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e should wait for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;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ἀποκριθεὶς ὁ Ἰησοῦς εἶπεν αὐτοῖς∙ Πορευθέντες ἀπαγγείλατε Ἰωάννῃ ἃ ἀκούετε καὶ βλέπετε∙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τυφλοὶ ἀναβλέπουσιν καὶ χωροὶ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am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ριπατοῦσιν, λεπροὶ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eper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θαρίζοντα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θαριζω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leans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κωφοὶ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af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ύουσιν, καὶ νεκροὶ ἐγείρονται καὶ πτωχοὶ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oor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ὐαγγελίζ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21:15:13Z</dcterms:created>
  <dc:creator>Sarah</dc:creator>
  <dc:description/>
  <dc:language>en-US</dc:language>
  <cp:lastModifiedBy>Sarah</cp:lastModifiedBy>
  <dcterms:modified xsi:type="dcterms:W3CDTF">2009-07-09T18:55:50Z</dcterms:modified>
  <cp:revision>24</cp:revision>
  <dc:subject/>
  <dc:title>Slide 1</dc:title>
</cp:coreProperties>
</file>